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560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lstStyle>
            <a:lvl1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  <a:defRPr b="0" lang="pt-BR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32C57C8A-A245-4A33-AEE0-E058B5E453EB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b">
            <a:noAutofit/>
          </a:bodyPr>
          <a:p>
            <a:pPr algn="r"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70613410-0533-49D9-9F70-B82EF7EDDA88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2EF0-1CD9-4CA9-9720-2F26C5E28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7745-3077-4E8C-AD82-3BC2E25E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9E6A-34E8-42DC-91C8-57BD4D2EE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6195-D84A-4E28-A7DB-B8C112A7A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0F3B-2E4A-4C3C-93AD-AC79A701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9BEE-90F7-45B5-B8AD-BB9FC294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FB6D-4469-46D3-AA2E-C377283E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E574-5F6E-4BF1-96AF-67322C50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F41F-88E7-4AC2-A3C6-13928701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002B-9F2D-4C63-9E49-70ADF49E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8EEE-EC09-4C3D-8091-C7859FDB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58C9-E45A-41B9-AB0A-B83C662D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6009-9128-49E4-B021-F67AD8216EB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539640" y="2349360"/>
            <a:ext cx="799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500" spc="-1" strike="noStrike">
                <a:solidFill>
                  <a:srgbClr val="000000"/>
                </a:solidFill>
                <a:latin typeface="Bookman Old Style"/>
              </a:rPr>
              <a:t>Características do Lix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79280" y="547992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Professor: Eng. Civil José W. Jiménez Ro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dimentos alternativos para análise das características fís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250920" y="1844640"/>
            <a:ext cx="856908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seguida deverão ser escolhidos cinco recipientes de capacidade e pesos próprios conhecidos (tambores vazio de 200 litros usados para armazenar óleo são ideai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recipientes serão preenchidos até a borda com o lixo do “quarto” selecionado. O recipiente cheio de lixo passa a ser o elemento básico de estudo. Através dele é possível obt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251280" y="4357800"/>
            <a:ext cx="287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 peso especifico mé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250920" y="5106960"/>
            <a:ext cx="83534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eso líquido de lixo (em k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eso Específic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= peso líquido de lixo (em Kg) / Volume total dos latões (em m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eso Líquido de lix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= peso total dos latões cheios - peso próprio dos latões vazi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dimentos alternativos para análise das características fís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253440" y="1916280"/>
            <a:ext cx="31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composição gravimé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3"/>
          <p:cNvSpPr/>
          <p:nvPr/>
        </p:nvSpPr>
        <p:spPr>
          <a:xfrm>
            <a:off x="250920" y="2492280"/>
            <a:ext cx="8353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chegar a esta proporção será preciso escolher dois dos tambores contendo lixo e proceder à separação manual dos seguintes componen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papel e papelã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plástic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madei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couro e borrach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pano e estop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lha, mato e galhad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matéria orgânica (restos de comid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metal ferros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metal não-ferroso (alumínio, cobre, etc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vidr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louça, cerâmica e ped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dimentos alternativos para análise das características fís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253440" y="1916280"/>
            <a:ext cx="31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composição gravimé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250920" y="2705040"/>
            <a:ext cx="554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chegar a esta proporção será preciso escolher dois dos tambores contendo lixo e proceder à separação manual dos seguintes componen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gregado fino, isto é, todo o material peneirado em malha de uma polegada (1”) e de difícil catação, composto de pós, terra, grãos de arroz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 seguida, deve ser determinado o peso de cada um dos materiais separ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inalmente, através de regra de três simples, será obtido o percentual em peso de cada componente ou seja, a composição gravimétrica do lix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3" descr=""/>
          <p:cNvPicPr/>
          <p:nvPr/>
        </p:nvPicPr>
        <p:blipFill>
          <a:blip r:embed="rId2"/>
          <a:stretch/>
        </p:blipFill>
        <p:spPr>
          <a:xfrm>
            <a:off x="5911920" y="2781360"/>
            <a:ext cx="30528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dimentos alternativos para análise das características fís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255240" y="1994040"/>
            <a:ext cx="263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O teor de umid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322200" y="2695680"/>
            <a:ext cx="8353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a defini-lo, é preciso começar separando uma amostra de até 2 kg de lixo de um dos tambores. Essa amostra será levada a uma estufa, onde deverá permanecer até alcançar peso constante (24 horas a 105°C ou 48 horas a 75°C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material resultante deverá ser pesado. Uma regra de três simples determinará o teor de umidade do lix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6"/>
          <p:cNvSpPr/>
          <p:nvPr/>
        </p:nvSpPr>
        <p:spPr>
          <a:xfrm>
            <a:off x="250920" y="1484280"/>
            <a:ext cx="856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a começar a pensar em um serviço de limpeza urbana é preciso identificar as características dos resíduos gerados, pois a “cara” do lixo varia conforme a cidade, em função de diversos fatores, como por exemplo, a atividade dominante (industrial, comercial, turística, etc.), os hábitos e costumes da população (principalmente quanto à alimentação) e o clim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0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8" descr=""/>
          <p:cNvPicPr/>
          <p:nvPr/>
        </p:nvPicPr>
        <p:blipFill>
          <a:blip r:embed="rId3"/>
          <a:stretch/>
        </p:blipFill>
        <p:spPr>
          <a:xfrm>
            <a:off x="2050920" y="3659040"/>
            <a:ext cx="504036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250920" y="1484280"/>
            <a:ext cx="856908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 cidades se transformam sem parar. Dentro de uma mesma comunidades, as características vão se modificando com o decorrer dos anos, tornando necessários levantamentos periódicos visando a atualização de d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Ha três áreas principais a investiga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412200" y="3789360"/>
            <a:ext cx="258876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racterísticas fís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9"/>
          <p:cNvSpPr/>
          <p:nvPr/>
        </p:nvSpPr>
        <p:spPr>
          <a:xfrm>
            <a:off x="416160" y="4765680"/>
            <a:ext cx="286920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racterísticas quím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410760" y="5726160"/>
            <a:ext cx="301068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racterísticas bioló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250920" y="2332080"/>
            <a:ext cx="576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omposição gravimétrica: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traduz o percentual de cada componente em relação ao peso total do lix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412200" y="1557360"/>
            <a:ext cx="258876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racterísticas fís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3" descr=""/>
          <p:cNvPicPr/>
          <p:nvPr/>
        </p:nvPicPr>
        <p:blipFill>
          <a:blip r:embed="rId3"/>
          <a:stretch/>
        </p:blipFill>
        <p:spPr>
          <a:xfrm>
            <a:off x="6084720" y="260280"/>
            <a:ext cx="2762280" cy="31053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4"/>
          <p:cNvSpPr/>
          <p:nvPr/>
        </p:nvSpPr>
        <p:spPr>
          <a:xfrm>
            <a:off x="250920" y="3657600"/>
            <a:ext cx="856908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eso específico: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é o peso dos resíduos em função do volume por eles ocupados, expresso em kg;/m³. Sua determinação é fundamental para o dimensionamento de equipamentos e instalaçõe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Teor de umidade: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esta característica tem influência decisiva, principalmente nos processos de tratamento e destinação do lixo. Varia muito em função das estações do ano e da incidência de chuva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250920" y="2340000"/>
            <a:ext cx="8569080" cy="36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ompressibilidade: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também conhecida como grau de compactação, indica a redução de volume que uma massa de lixo pode sofrer, quando submetida a uma pressão determinada. A compressibilidade do lixo situa-se entre 1:3 e 1:4 para uma pressão equivalente a 4 kg/cm</a:t>
            </a:r>
            <a:r>
              <a:rPr b="0" lang="pt-BR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 Tais valores são utilizados para dimensionamento de equipamentos compactadore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Geração per capita: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relaciona quantidade do lixo gerado diariamente e o número de habitantes de determinada região. Muitos técnicos consideram de 0,5 a 0,8 kg/habitante/dia como a faixa de variação média para o Brasil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2"/>
          <p:cNvSpPr/>
          <p:nvPr/>
        </p:nvSpPr>
        <p:spPr>
          <a:xfrm>
            <a:off x="412200" y="1557360"/>
            <a:ext cx="258876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racterísticas fís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250920" y="2133720"/>
            <a:ext cx="576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oder calorífico: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indica a capacidade potencial de um material desprender determinada quantidade de calor quando submetido à queim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411480" y="1557360"/>
            <a:ext cx="286920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racterísticas quím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250920" y="3573360"/>
            <a:ext cx="8569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otencial de hidrogênio (pH):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indica o teor de acidez ou alcalinidade do material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eores de cinzas, matéria orgânica, carbono, nitrogênio, potássio, cálcio, fósforo, resíduo mineral total, resíduo mineral solúvel e gordu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Relação C/N ou relação carbono/nitrogênio: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indica o grau de decomposição da matéria orgânica do lixo nos processos de tratamento/disposição fi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5" descr=""/>
          <p:cNvPicPr/>
          <p:nvPr/>
        </p:nvPicPr>
        <p:blipFill>
          <a:blip r:embed="rId6"/>
          <a:stretch/>
        </p:blipFill>
        <p:spPr>
          <a:xfrm>
            <a:off x="6156360" y="981000"/>
            <a:ext cx="25430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410760" y="1557360"/>
            <a:ext cx="301068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racterísticas bioló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250920" y="2205000"/>
            <a:ext cx="8569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estudo da população microbiana e dos agentes patogênicos presentes no lixo urbano, ao lado das suas características químicas, permite que sejam discriminados os métodos de tratamento e disposição mais adequados. Nessa área são necessários procedimentos de pesquis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5" descr=""/>
          <p:cNvPicPr/>
          <p:nvPr/>
        </p:nvPicPr>
        <p:blipFill>
          <a:blip r:embed="rId3"/>
          <a:stretch/>
        </p:blipFill>
        <p:spPr>
          <a:xfrm>
            <a:off x="2987640" y="4005360"/>
            <a:ext cx="35290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dimentos alternativos para análise das características fís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250920" y="2022480"/>
            <a:ext cx="856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maioria das cidades brasileiras não tem condições de montar laboratórios maravilhosos onde sejam feitas todas as análises como manda o figurino. Por isso serão alinhados em seguida alguns procedimentos práticos que podem auxiliar na determinação do peso específico, composição gravimétrica e teor de umidade do lixo urban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250920" y="4379760"/>
            <a:ext cx="856908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vem ser selecionadas algumas amostras de lixo “solto”, provenientes de diferentes áreas de coleta, a fim de conseguir resultados que se aproximem o máximo possível da realida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amostras serão misturadas, com auxílio de pás e enxadas, num mesmo “lote” , rasgando-se os sacos plásticos, caixas de papelão, caixotes, etc. e materiais assemelhados que porventura exist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dimentos alternativos para análise das características fís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250920" y="1844640"/>
            <a:ext cx="8569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massa de resíduos será dividida em quatro partes. Um dos quartos resultantes será escolhido para nova divisão em quatro partes e assim por diante. O processo se chama quartea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quarteamentos cessarão quando o volume de cada uma das partes for de aproximadamente 1 m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3" descr=""/>
          <p:cNvPicPr/>
          <p:nvPr/>
        </p:nvPicPr>
        <p:blipFill>
          <a:blip r:embed="rId2"/>
          <a:stretch/>
        </p:blipFill>
        <p:spPr>
          <a:xfrm>
            <a:off x="250920" y="3716280"/>
            <a:ext cx="8713800" cy="19987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4"/>
          <p:cNvSpPr/>
          <p:nvPr/>
        </p:nvSpPr>
        <p:spPr>
          <a:xfrm>
            <a:off x="250920" y="589608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lquer uma das quatro partes do material será separada para anál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8:40:57Z</dcterms:created>
  <dc:creator>José Rojas</dc:creator>
  <dc:description/>
  <dc:language>en-US</dc:language>
  <cp:lastModifiedBy>ROJAS</cp:lastModifiedBy>
  <dcterms:modified xsi:type="dcterms:W3CDTF">2014-05-08T01:46:28Z</dcterms:modified>
  <cp:revision>196</cp:revision>
  <dc:subject/>
  <dc:title>Slide 1</dc:title>
</cp:coreProperties>
</file>